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D4A6-C505-405E-8C80-013A63048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CE5-6305-47DD-B4E5-AAF5C1E39F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57D1-F6E5-435F-AFF0-C134366FA8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D31-9071-4609-B4C3-D2199F80D9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B74D-39DE-4E8D-AE80-14BC92A1BC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BAA-4A1E-4F7E-8083-666B1C8E86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D898-AC3D-44B5-8066-DC8997E346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D2B-29D0-4312-80A9-1F0DE5DA2C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6E4-56AB-4934-B847-2B87A931FC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708-D28C-426D-B632-96686810AE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54E-8A62-47C9-B05D-ACFE8D2BAD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C13-72BA-4376-A026-B3E948F44E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E633-398F-4C22-BB17-5279E2C49A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FDC4-A3A9-469B-B226-83A3490A3E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8644-BB9E-4C10-B045-62508C1C4E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7977-D0C3-4D80-A443-FA939F312E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C90-F221-4E7B-8BF6-0B2BEF16FC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17B4-EB21-426B-A168-077A79DAA5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EFB-297C-4B61-BB73-30B7814FAA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3D3-439E-44F9-94CF-7E89588ED8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AB92-FDF8-4D4C-BF8E-0C73AE83F4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A30-1DA3-40A9-87E1-4A3D6E037C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4D15-9161-4951-9087-DE0C42CA86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090-05C6-4C5A-859A-E4473B82C0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4C3F-5305-468F-9DE3-9C9643EE87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CB76-8B22-46FB-87FC-D9A3534D15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A975-3AF0-4788-A2C2-C29538FBF0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BA0E-382D-444B-99CF-B16F05577B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F46D-266A-4E72-9544-30034F9626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B081-7029-456F-B771-0A6CB9FD22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2D0-3597-4AAE-9506-8068CA40E1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45F9-F972-4D51-8368-0122BF956C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8BD-7093-4A02-B287-BD2DD03B1A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F90-827C-4569-9711-12E789C6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E04-1FD9-4C54-A32A-47FEAC0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42A-97F1-4CD3-A5EA-A0BE7BD1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12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8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12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8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F78-CCEC-4F4F-ABF2-060C1985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4903-24E7-4244-B570-D90BE054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7DE5-6951-44D5-B951-0BD77A5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862-FF2D-4B2F-90FC-F31A07A9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257F-91FA-4312-91C4-B9AF7C95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1716-D12E-478A-ACB9-3956224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3DF5-F1B5-484E-A1E8-13BFD50A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B90-38AB-4418-871D-0A12401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49F-C517-4166-B3EE-CF6F4FF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C37D-7DB9-4376-834D-8819CFB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EAC7-C248-4DA3-8102-BFF9119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D382-1B8A-4A0E-9EFA-4D71651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D26-92EA-4EBC-814C-6368229C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12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78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12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78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A858-19DE-48D8-A8EA-826E0AD4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006-F9EF-4E2C-9ECA-5C9F76A7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372-AEC1-4ECE-82B1-E81F78D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52A-13C0-4CF6-9D3C-702E6E3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3AE-BB7A-4AE1-9B78-8A349CDE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D1A-2F40-434F-B14B-F334875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2D4-1427-4264-883B-4617E27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153-0440-41DB-BCD6-A7C6B92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7BC-126F-47CE-B737-810FC84E3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C50C-7286-4074-93FE-32B263C26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1571760" y="4714920"/>
            <a:ext cx="628632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ib Sekhar Dat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928880" y="1857240"/>
            <a:ext cx="542916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285840" y="928800"/>
            <a:ext cx="857232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insurance is an earmarked fund set up by govern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benefits in return fo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usually compulsory for certain groups in the popula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s are determined by income (and hence ability to pa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ther than related to health ris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nefit packages are standard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tions are earmarked for spending on health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vernment-run schem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Government Health Scheme (CGH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ees State Insurance Scheme (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1"/>
          <p:cNvSpPr/>
          <p:nvPr/>
        </p:nvSpPr>
        <p:spPr>
          <a:xfrm>
            <a:off x="285840" y="1327320"/>
            <a:ext cx="85723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nerate sufficient and sustainable resources for heal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these resources optim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y modifying incentives and through appropriate use of thes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nsure that everyone has financial accessibility to heal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rgets of Social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571680" y="428760"/>
            <a:ext cx="80722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 - financing targets and final health system go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42920" y="328608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of social health insurance schem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y design iss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357880" y="200016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v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57880" y="464328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r financial contrib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000920" y="328608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500200" y="1857240"/>
            <a:ext cx="2214720" cy="1000440"/>
          </a:xfrm>
          <a:prstGeom prst="ellipse">
            <a:avLst/>
          </a:prstGeom>
          <a:solidFill>
            <a:srgbClr val="c2f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ource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sufficient &amp; sustainab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2357280" y="4429080"/>
            <a:ext cx="2357640" cy="1000080"/>
          </a:xfrm>
          <a:prstGeom prst="ellipse">
            <a:avLst/>
          </a:prstGeom>
          <a:solidFill>
            <a:srgbClr val="c2f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n. accessibility of health services for 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2571840" y="3286080"/>
            <a:ext cx="2071440" cy="561960"/>
          </a:xfrm>
          <a:prstGeom prst="ellipse">
            <a:avLst/>
          </a:prstGeom>
          <a:solidFill>
            <a:srgbClr val="c2f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ptimal resource u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Straight Arrow Connector 14"/>
          <p:cNvCxnSpPr/>
          <p:nvPr/>
        </p:nvCxnSpPr>
        <p:spPr>
          <a:xfrm flipV="1">
            <a:off x="1285560" y="2571840"/>
            <a:ext cx="1215000" cy="643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6"/>
          <p:cNvCxnSpPr/>
          <p:nvPr/>
        </p:nvCxnSpPr>
        <p:spPr>
          <a:xfrm>
            <a:off x="1285920" y="3928680"/>
            <a:ext cx="1062720" cy="848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Straight Arrow Connector 19"/>
          <p:cNvCxnSpPr/>
          <p:nvPr/>
        </p:nvCxnSpPr>
        <p:spPr>
          <a:xfrm>
            <a:off x="2071440" y="3571920"/>
            <a:ext cx="5007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Straight Arrow Connector 24"/>
          <p:cNvCxnSpPr/>
          <p:nvPr/>
        </p:nvCxnSpPr>
        <p:spPr>
          <a:xfrm>
            <a:off x="4785840" y="2500200"/>
            <a:ext cx="2001240" cy="929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4" name="Straight Arrow Connector 27"/>
          <p:cNvCxnSpPr/>
          <p:nvPr/>
        </p:nvCxnSpPr>
        <p:spPr>
          <a:xfrm>
            <a:off x="4714560" y="3569760"/>
            <a:ext cx="21438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Straight Arrow Connector 31"/>
          <p:cNvCxnSpPr/>
          <p:nvPr/>
        </p:nvCxnSpPr>
        <p:spPr>
          <a:xfrm>
            <a:off x="4714560" y="4928760"/>
            <a:ext cx="5720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Straight Arrow Connector 36"/>
          <p:cNvCxnSpPr/>
          <p:nvPr/>
        </p:nvCxnSpPr>
        <p:spPr>
          <a:xfrm flipV="1">
            <a:off x="7428600" y="3928680"/>
            <a:ext cx="500760" cy="1000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7" name="Straight Arrow Connector 40"/>
          <p:cNvCxnSpPr/>
          <p:nvPr/>
        </p:nvCxnSpPr>
        <p:spPr>
          <a:xfrm>
            <a:off x="6357600" y="2643120"/>
            <a:ext cx="1500840" cy="572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Straight Arrow Connector 43"/>
          <p:cNvCxnSpPr/>
          <p:nvPr/>
        </p:nvCxnSpPr>
        <p:spPr>
          <a:xfrm flipV="1">
            <a:off x="4714920" y="2642400"/>
            <a:ext cx="1357920" cy="8578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2571840" y="71280"/>
            <a:ext cx="4429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GH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Central Government Health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28760" y="714240"/>
            <a:ext cx="84294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1954, all employees of the Central Govt. (present and retired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utonomous and semi-government organizations, MPs, judges,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dom fighters and journalists are covered under the CGH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replace the cumbersome and expensive system of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mbursements (GOI, 1994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at providing comprehensive medical care to the Central Gov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ees and benefits offered include all OPD facilities, an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ve and promotive care in dispensari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atient facilities in government hospitals and approved privat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pitals are also covere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71840" y="71280"/>
            <a:ext cx="4429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GH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Central Government Health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85840" y="1071720"/>
            <a:ext cx="8715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ly funded through Central Govt. fu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s ranging from Rs 15 to Rs 150 per month based on salary scal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age has grown substantially with provision for the non-allopathic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of medicine as well as for allopath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aries at this moment are around 432 000, spread across 22 cit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ized from the point of view of quality and accessibilit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high out-of-pocket expenses due to slow reimbursement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plete coverage for private health care (as only 80% of cost i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mbursed if referral is made to private facility when such facilities ar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vailable with the CGH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571840" y="71280"/>
            <a:ext cx="44290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Employees State Insurance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428760" y="1363680"/>
            <a:ext cx="8286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ctment of ESI Act in 1948 led to formulation of ESI Sche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tection to employees against loss of wages due to inability to work due to sickness, maternity, disability and death due to employment inju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medical and cash benefits, preventive and promotive care and health educ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care is also provided to employees and their family members without fee for serv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stablishments like shops, hotels, restaurants, cinema houses, road transport and news papers printing are now cove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hly wage limit for enrolment in the ESIS is Rs. 6 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571840" y="71280"/>
            <a:ext cx="44290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Employees State Insurance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28760" y="1000080"/>
            <a:ext cx="83581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yment contribution in the form of a payroll tax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75% by employees, 4.75% of employees' wages paid by the employers,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5% of the total expenses are borne by the state govern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aries are over 33 million spread over 620 ESI centres across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the ESIS, there were 125 hospitals, 42 annexes and 1450 dispensari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ver 23 000 beds facilit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me is managed and financed by the ESI Corporation (a public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taking) through the state govt., with total expenditure of Rs. 3300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lion or Rs 400/- per capita insured per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2071800" y="71280"/>
            <a:ext cx="50720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isting infrastructure under ESIS in In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57120" y="1330200"/>
          <a:ext cx="8358120" cy="4948200"/>
        </p:xfrm>
        <a:graphic>
          <a:graphicData uri="http://schemas.openxmlformats.org/drawingml/2006/table">
            <a:tbl>
              <a:tblPr/>
              <a:tblGrid>
                <a:gridCol w="5643720"/>
                <a:gridCol w="271440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Cent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Insured Persons/Family Un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,4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 Hospit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ESI Hospital Bed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3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 Dispensa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ance Medical Officer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ance Medical Practitioner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071800" y="71280"/>
            <a:ext cx="50720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blems faced in the 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57120" y="857160"/>
            <a:ext cx="85010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f the problems a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number of employers try to avoid being covered under the sche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rge number of posts of medical staff remains vacant because of high turnover and lengthy recruitment proced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duality of contro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ing costs and technological advancement in super specialty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information system is not satisfacto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low utilization of the hospit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orkers are not satisfied with the services they g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ural area the access to services is also a probl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85840" y="1071720"/>
          <a:ext cx="8643960" cy="4483080"/>
        </p:xfrm>
        <a:graphic>
          <a:graphicData uri="http://schemas.openxmlformats.org/drawingml/2006/table">
            <a:tbl>
              <a:tblPr/>
              <a:tblGrid>
                <a:gridCol w="1714320"/>
                <a:gridCol w="3286080"/>
                <a:gridCol w="36435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Employees State Insurance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GH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entral Government Health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: 4.75% of wages. Employers: 1.75% of wag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contributions are deposited by t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e governments contribute a minimum of 12.5 % on ESIS expenditures in their respective St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y/pension Contrib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Rs/month)      (Rs/mont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3,000                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1–6000             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1–10000         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1–15000      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15000              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ulk of resources (85%) come fr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neral revenues of the Central Govt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imburs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es not allow reimbursement of medical treatment outside of allot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iliti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Reimbursement of consultation fee, f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 to four consultations in a total spell of ten days (on refer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Cost of medici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Charges for a maximum of ten inj. Reimbursement for specified disea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2"/>
          <p:cNvSpPr/>
          <p:nvPr/>
        </p:nvSpPr>
        <p:spPr>
          <a:xfrm>
            <a:off x="2571840" y="7128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2214720" y="71280"/>
            <a:ext cx="4572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57160" y="622440"/>
            <a:ext cx="6929640" cy="58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s in Different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an Scenario of S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HS and 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and 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571840" y="7128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5840" y="785880"/>
          <a:ext cx="8643960" cy="5702400"/>
        </p:xfrm>
        <a:graphic>
          <a:graphicData uri="http://schemas.openxmlformats.org/drawingml/2006/table">
            <a:tbl>
              <a:tblPr/>
              <a:tblGrid>
                <a:gridCol w="1714320"/>
                <a:gridCol w="3286080"/>
                <a:gridCol w="36435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Employees State Insurance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GH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entral Government Health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titl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OPD care at dispensa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 panel clinics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Consultation with specialist and supply of special medicines and tests in addition to outpatient car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Hospitalization, specialists, drugs and special di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Cash benefits: Periodical payments to any insured person in case of sickness, pregnancy, disablement or death resulting from an employment injur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First-level consultation and preven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lth care service through dispensaries and hospitals under the sche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Consultation at a CGHS dispensary 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yclinic or CGHS wing at a recognized hospit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Treatment from a specialist throu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erral, emergency treatment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 hospitals and outside Ind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 (and dependants) working in establishments employing ten or more persons (with power) or twenty or more persons (without power) and earning less than Rs. 6 500 per month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 of the Central 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excepting railways, Armed For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sioners and Delhi Administration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sioners, widows of Cent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 employees, Delhi Pol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, Defence employees 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endants residing in 24 speci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5960" y="999720"/>
            <a:ext cx="8915400" cy="57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is usually volunt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 of risk coverage from healthy to sick and rich to po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ommon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1. Affiliation is based on community membership and the community is strongly involved in managing the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2. Beneficiaries are excluded from other kinds of health cover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3. Members share a set of social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order to deal with limited ability of community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insurance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of liability from primary insurer to another insur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000160" y="142920"/>
            <a:ext cx="51436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n-profit social insuranc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own Arrow 5"/>
          <p:cNvSpPr/>
          <p:nvPr/>
        </p:nvSpPr>
        <p:spPr>
          <a:xfrm>
            <a:off x="4071960" y="2928960"/>
            <a:ext cx="484200" cy="15001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Up Arrow 6"/>
          <p:cNvSpPr/>
          <p:nvPr/>
        </p:nvSpPr>
        <p:spPr>
          <a:xfrm>
            <a:off x="5143680" y="2857680"/>
            <a:ext cx="483840" cy="1571400"/>
          </a:xfrm>
          <a:prstGeom prst="up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571840" y="1857240"/>
            <a:ext cx="44290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r + Insu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643040" y="5929200"/>
            <a:ext cx="62866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: ACCORD, MGIMS, RAHA, SHH, V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571840" y="4786200"/>
            <a:ext cx="450036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5840" y="785880"/>
          <a:ext cx="8643960" cy="5913360"/>
        </p:xfrm>
        <a:graphic>
          <a:graphicData uri="http://schemas.openxmlformats.org/drawingml/2006/table">
            <a:tbl>
              <a:tblPr/>
              <a:tblGrid>
                <a:gridCol w="2455920"/>
                <a:gridCol w="4044960"/>
                <a:gridCol w="2143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and Location of the CHI as Well As Year of Init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get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OR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lgiris, T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eduled tribes who are members o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Adivasi Munnetra Sangam (AMS) – the tribal un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3,070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ed with the New India As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I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rdha, Maharash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mall farmers and landless labourers living in the 40 villages around Kasturba Hospit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30,000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linkages. The organisation operates the sche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igarh, Korba districts of Chhattisga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or people living in the catchment area of the 92 rural health centres and hostel stud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92,000 individuals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ve their own provi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udent’s Health Ho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lkata, West Beng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ll-time student in West Bengal state, from Class 5 to university leve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5.6 million student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ve their own health facil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Health Serv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re, Chenna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res in the suburbs of Chennai. (N= 104,247 individuals in two block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ve their own hospital and heal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 Schemes in India –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000080" y="1500120"/>
            <a:ext cx="292896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er (N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643040" y="5929200"/>
            <a:ext cx="62866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: DHAN, Yeshasv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928800" y="4714920"/>
            <a:ext cx="4500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715000" y="2714760"/>
            <a:ext cx="31431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Up Arrow 11"/>
          <p:cNvSpPr/>
          <p:nvPr/>
        </p:nvSpPr>
        <p:spPr>
          <a:xfrm>
            <a:off x="2000160" y="2428920"/>
            <a:ext cx="928800" cy="18572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Up Arrow 12"/>
          <p:cNvSpPr/>
          <p:nvPr/>
        </p:nvSpPr>
        <p:spPr>
          <a:xfrm rot="7131600">
            <a:off x="4430880" y="1283400"/>
            <a:ext cx="928800" cy="18572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Up Arrow 13"/>
          <p:cNvSpPr/>
          <p:nvPr/>
        </p:nvSpPr>
        <p:spPr>
          <a:xfrm rot="14769600">
            <a:off x="4358160" y="2941920"/>
            <a:ext cx="928800" cy="18572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 rot="16200000">
            <a:off x="1928880" y="342900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 rot="20089800">
            <a:off x="4512960" y="363024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 rot="1660800">
            <a:off x="4304880" y="199836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85840" y="1514520"/>
          <a:ext cx="8643960" cy="3200400"/>
        </p:xfrm>
        <a:graphic>
          <a:graphicData uri="http://schemas.openxmlformats.org/drawingml/2006/table">
            <a:tbl>
              <a:tblPr/>
              <a:tblGrid>
                <a:gridCol w="2455920"/>
                <a:gridCol w="4044960"/>
                <a:gridCol w="2143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and Location of the CHI as Well As Year of Init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get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HAN Found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ni district, Tamil Nad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or women members of the community banking scheme and living in the villages of Mayiladumparia block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f 4,514 members and their famili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9,049 individuals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linkage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women operate t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eme by themsel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hasvini Tru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ngalore, Karnata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mbers of the cooperative societies in Karnata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25 lakh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te their own program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 Schemes in India – Typ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Down Arrow 5"/>
          <p:cNvSpPr/>
          <p:nvPr/>
        </p:nvSpPr>
        <p:spPr>
          <a:xfrm>
            <a:off x="4500720" y="1857240"/>
            <a:ext cx="785520" cy="292896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Up Arrow 6"/>
          <p:cNvSpPr/>
          <p:nvPr/>
        </p:nvSpPr>
        <p:spPr>
          <a:xfrm>
            <a:off x="1714680" y="3286080"/>
            <a:ext cx="714240" cy="15717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429000" y="928800"/>
            <a:ext cx="30002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er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643040" y="5929200"/>
            <a:ext cx="62866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I: BAIF, Buldhana, Karuna Trust, Navsarjan, SE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857160" y="4929120"/>
            <a:ext cx="80010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Down Arrow 10"/>
          <p:cNvSpPr/>
          <p:nvPr/>
        </p:nvSpPr>
        <p:spPr>
          <a:xfrm>
            <a:off x="7358040" y="3357720"/>
            <a:ext cx="642960" cy="150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785880" y="2571840"/>
            <a:ext cx="25718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572160" y="2571840"/>
            <a:ext cx="221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Up Arrow 13"/>
          <p:cNvSpPr/>
          <p:nvPr/>
        </p:nvSpPr>
        <p:spPr>
          <a:xfrm rot="3155400">
            <a:off x="2269800" y="974520"/>
            <a:ext cx="714600" cy="157176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 rot="19290600">
            <a:off x="1981080" y="170820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 rot="16200000">
            <a:off x="1571760" y="414324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 rot="5400000">
            <a:off x="7215120" y="378612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 rot="5400000">
            <a:off x="4018680" y="2893320"/>
            <a:ext cx="1803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mburs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85840" y="571680"/>
          <a:ext cx="8643960" cy="6156000"/>
        </p:xfrm>
        <a:graphic>
          <a:graphicData uri="http://schemas.openxmlformats.org/drawingml/2006/table">
            <a:tbl>
              <a:tblPr/>
              <a:tblGrid>
                <a:gridCol w="2286000"/>
                <a:gridCol w="4214880"/>
                <a:gridCol w="2143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and Location of the CHI as Well As Year of Init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get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ruli Kanchan, Pu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or women members of the community banking scheme and living in the 22 villages around Uruli Kanchan tow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 1,500 wom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ed with United India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LDHANA Urban Cooperative and Credit societ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ldhana, Maharash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mers living in Buldhana Distri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75,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ed with United India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una Tru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ysore, Karnata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population of T Narsipur block and Bailhongal block, with a focus on scheduled tribes and scheduled caste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634,581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linkages. The organisation oper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che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vsarjan Tru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han District, Guj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Discontinued in 2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 scheduled caste individuals in two blocks of Patan district, North Guj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 ?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age with New India As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W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districts of Guj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4,674 SEWA Union women members (urban and rural), plus their husbands living in 11 distri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,067,348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age with National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2"/>
          <p:cNvSpPr/>
          <p:nvPr/>
        </p:nvSpPr>
        <p:spPr>
          <a:xfrm>
            <a:off x="2571840" y="7128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 Schemes in India –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960" y="115236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ed on April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care of Rs. 30,000 annual hospitalization expendi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ve members of a BPL family in any part of the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they mig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PL beneficiary has to pay Rs. 30 per year to get the smart card with his thumb impression on the chip to identif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year, 1.2 crores BPL family members will be targ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60 million cards will be issued under the RSBY scheme over the next five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857240" y="285840"/>
            <a:ext cx="54295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shtriya Swasthya Bima Yoj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9"/>
          <p:cNvSpPr/>
          <p:nvPr/>
        </p:nvSpPr>
        <p:spPr>
          <a:xfrm>
            <a:off x="2500200" y="1214280"/>
            <a:ext cx="4643640" cy="457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214720" y="142920"/>
            <a:ext cx="4572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SBY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ounded Rectangle 7"/>
          <p:cNvSpPr/>
          <p:nvPr/>
        </p:nvSpPr>
        <p:spPr>
          <a:xfrm>
            <a:off x="3786120" y="8715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ATE NODAL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ounded Rectangle 8"/>
          <p:cNvSpPr/>
          <p:nvPr/>
        </p:nvSpPr>
        <p:spPr>
          <a:xfrm>
            <a:off x="3786120" y="235728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RANCE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857240" y="521496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6000840" y="52149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618c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ight Arrow 13"/>
          <p:cNvSpPr/>
          <p:nvPr/>
        </p:nvSpPr>
        <p:spPr>
          <a:xfrm rot="3060600">
            <a:off x="5598720" y="38131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ight Arrow 14"/>
          <p:cNvSpPr/>
          <p:nvPr/>
        </p:nvSpPr>
        <p:spPr>
          <a:xfrm rot="10800000">
            <a:off x="4071960" y="531324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ight Arrow 15"/>
          <p:cNvSpPr/>
          <p:nvPr/>
        </p:nvSpPr>
        <p:spPr>
          <a:xfrm rot="18745200">
            <a:off x="2315880" y="37285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3786120" y="3929040"/>
            <a:ext cx="2071800" cy="1200240"/>
          </a:xfrm>
          <a:prstGeom prst="ellipse">
            <a:avLst/>
          </a:prstGeom>
          <a:solidFill>
            <a:srgbClr val="bf0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 rot="3105600">
            <a:off x="5663520" y="385812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429080" y="557208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 rot="18762000">
            <a:off x="2383560" y="406260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GIST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Cloud Callout 21"/>
          <p:cNvSpPr/>
          <p:nvPr/>
        </p:nvSpPr>
        <p:spPr>
          <a:xfrm rot="18768600">
            <a:off x="1494000" y="2702880"/>
            <a:ext cx="1290600" cy="795600"/>
          </a:xfrm>
          <a:prstGeom prst="cloudCallout">
            <a:avLst>
              <a:gd name="adj1" fmla="val -20050"/>
              <a:gd name="adj2" fmla="val 88143"/>
            </a:avLst>
          </a:prstGeom>
          <a:solidFill>
            <a:srgbClr val="88c209"/>
          </a:solidFill>
          <a:ln w="25560">
            <a:solidFill>
              <a:srgbClr val="628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Explosion 1 22"/>
          <p:cNvSpPr/>
          <p:nvPr/>
        </p:nvSpPr>
        <p:spPr>
          <a:xfrm>
            <a:off x="6357960" y="2928960"/>
            <a:ext cx="1928880" cy="1414440"/>
          </a:xfrm>
          <a:prstGeom prst="irregularSeal1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23"/>
          <p:cNvSpPr/>
          <p:nvPr/>
        </p:nvSpPr>
        <p:spPr>
          <a:xfrm>
            <a:off x="142920" y="571680"/>
            <a:ext cx="2000160" cy="642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AT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le 24"/>
          <p:cNvSpPr/>
          <p:nvPr/>
        </p:nvSpPr>
        <p:spPr>
          <a:xfrm>
            <a:off x="142920" y="128592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ENTRAL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25"/>
          <p:cNvSpPr/>
          <p:nvPr/>
        </p:nvSpPr>
        <p:spPr>
          <a:xfrm rot="2109000">
            <a:off x="2093400" y="1192320"/>
            <a:ext cx="1781280" cy="639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26"/>
          <p:cNvSpPr/>
          <p:nvPr/>
        </p:nvSpPr>
        <p:spPr>
          <a:xfrm rot="2109000">
            <a:off x="1950840" y="2097000"/>
            <a:ext cx="1780920" cy="639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7"/>
          <p:cNvSpPr/>
          <p:nvPr/>
        </p:nvSpPr>
        <p:spPr>
          <a:xfrm rot="2138400">
            <a:off x="2095560" y="1414080"/>
            <a:ext cx="171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MIUM – 2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 rot="2138400">
            <a:off x="1952640" y="2342880"/>
            <a:ext cx="171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MIUM – 7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2214720" y="285840"/>
            <a:ext cx="45720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Y Health Insuran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357120" y="1984320"/>
            <a:ext cx="40006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s the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creas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finan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quality of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gulate the private 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14920" y="2000160"/>
            <a:ext cx="4143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wn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been introduced for wro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nceptually difficult to expl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dministratively more compl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 extra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500200" y="71280"/>
            <a:ext cx="4429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ance schemes in other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1280" y="714240"/>
            <a:ext cx="900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compulsory social health insurance is not possible in India at this s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ences from other countries such as Malaysia and Philippines needs to be studies (Malaysia 1999, Philippines 19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85840" y="2087640"/>
          <a:ext cx="8572320" cy="4699080"/>
        </p:xfrm>
        <a:graphic>
          <a:graphicData uri="http://schemas.openxmlformats.org/drawingml/2006/table">
            <a:tbl>
              <a:tblPr/>
              <a:tblGrid>
                <a:gridCol w="2000160"/>
                <a:gridCol w="3357720"/>
                <a:gridCol w="321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y Fea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merican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rman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wners of health insu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 companie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ckness funds composed of Members who are workers of one type - as in a cooperativ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verage, and access to health c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 % of population covered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ess to health care uneq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5% of population covered and access to every one is equ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ion and refusal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 occ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allowed by law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oice of provi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 - but being restricted in HMO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  wide choic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e of reg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imal by government, mostly by market fo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f-regulation by autonomous bodies under overall framework of social legis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357280" y="142920"/>
            <a:ext cx="44294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28760" y="857160"/>
            <a:ext cx="8215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dal agency is impor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has the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crease access to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finan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 lot of systemic changes need to be m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term persp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ze a design but with some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petition to get a reasonable 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or building capacity of the government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142920" y="28584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71280" y="1106640"/>
            <a:ext cx="89298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Health Organization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 universal coverage via social health insuranc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HO, Geneva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ard BS, Reinhard Busse, Josep Figueras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systems in western Europ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England: Open University Press; 200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tinchem O, Schramm  B, Schmidt,  Jean O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nefits and Challenges of Social Health Insurance for Developing and Transitional Countrie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ies International  Public Health, Germany, 2006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adasan N, Ranson K, Van DW, Criel B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Health Insurance in India: An Overview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and Political Weekly; 200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valankar D, Bhatt R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 Insurance in India Opportunities, Challenges and Concerns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an Institute of Management, Ahmedabad; 2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son K and Acharya A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based health insurance: The Answer to India’s Risk Sharing Problems?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ealth Action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480" y="70920"/>
            <a:ext cx="8629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surance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health insurance schemes or private-for-profit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er-based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rance offered by NGOs / community based health insuranc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health insurance schemes or government run schemes (namely ESIS, CGHS).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in India and Europe, Germany, Japan and so on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in these countries, in fact, evolved from a conglomeration of small ‘community’ health insurance sche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275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357280" y="142920"/>
            <a:ext cx="4572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lth Insuran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ounded Rectangle 7"/>
          <p:cNvSpPr/>
          <p:nvPr/>
        </p:nvSpPr>
        <p:spPr>
          <a:xfrm>
            <a:off x="3643200" y="71424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ounded Rectangle 8"/>
          <p:cNvSpPr/>
          <p:nvPr/>
        </p:nvSpPr>
        <p:spPr>
          <a:xfrm>
            <a:off x="3643200" y="250020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1643040" y="52149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ounded Rectangle 10"/>
          <p:cNvSpPr/>
          <p:nvPr/>
        </p:nvSpPr>
        <p:spPr>
          <a:xfrm>
            <a:off x="6000840" y="52149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618c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ight Arrow 13"/>
          <p:cNvSpPr/>
          <p:nvPr/>
        </p:nvSpPr>
        <p:spPr>
          <a:xfrm rot="3060600">
            <a:off x="5598720" y="38131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ight Arrow 14"/>
          <p:cNvSpPr/>
          <p:nvPr/>
        </p:nvSpPr>
        <p:spPr>
          <a:xfrm rot="10800000">
            <a:off x="4071960" y="531324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ight Arrow 15"/>
          <p:cNvSpPr/>
          <p:nvPr/>
        </p:nvSpPr>
        <p:spPr>
          <a:xfrm rot="18745200">
            <a:off x="2315880" y="37285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Up-Down Arrow 16"/>
          <p:cNvSpPr/>
          <p:nvPr/>
        </p:nvSpPr>
        <p:spPr>
          <a:xfrm>
            <a:off x="4572000" y="1643040"/>
            <a:ext cx="285840" cy="78732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3643200" y="3786120"/>
            <a:ext cx="2071800" cy="1200240"/>
          </a:xfrm>
          <a:prstGeom prst="ellipse">
            <a:avLst/>
          </a:prstGeom>
          <a:solidFill>
            <a:srgbClr val="bf0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 rot="3105600">
            <a:off x="5663520" y="385812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429080" y="557208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 rot="18762000">
            <a:off x="2383560" y="406260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M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Cloud Callout 21"/>
          <p:cNvSpPr/>
          <p:nvPr/>
        </p:nvSpPr>
        <p:spPr>
          <a:xfrm rot="18768600">
            <a:off x="1268280" y="2187720"/>
            <a:ext cx="1643040" cy="1255680"/>
          </a:xfrm>
          <a:prstGeom prst="cloudCallout">
            <a:avLst>
              <a:gd name="adj1" fmla="val -20050"/>
              <a:gd name="adj2" fmla="val 88143"/>
            </a:avLst>
          </a:prstGeom>
          <a:solidFill>
            <a:srgbClr val="88c209"/>
          </a:solidFill>
          <a:ln w="25560">
            <a:solidFill>
              <a:srgbClr val="628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214200" y="120024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health insurance  where everyone has to enroll and pay a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prem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 enrolled is entitled to specified benef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 and premiums determined by regulations – difficult to ad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s are earmarked for health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relation between demand and insurance 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typ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MARCK system – Employs multiple organizations which call for sickness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one parastatal agency outside the day-to-day control of the polit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571840" y="35712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yers voluntarily purchase insurance coverage from private, independent, competitive, for-profit or not-for-profit insurance compan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 that reflect buyer’s risk rather than their ability to 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/ Individuals are usually based in 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with Private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Adverse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Risk Selection (Cream Skimm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Informational Asymmetry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al Ha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428920" y="21420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ivate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plement taxation and social &amp; private insurance in order to reach those left out by formal taxation and insurance schemes such as employed in the informal sector, the unemployed, living in rural are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evolve in the context of severe economic constrains, political instability, and lack of good govern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: such arrangements improve people’s access to drugs, primary care, and even to more advanced hospital care. This community involvement allows rural and low-income populations to raise more resources with which to pay for health care than would otherwise have been possible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udy done by Preker et al (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71840" y="14292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 Fin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-of-Pocket Pay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yments by patients directly to health services providers that are not reimbursable by an insurance sche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r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omponent of OOP s and refer to payments when these are made for services provided by the public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oth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is raised and spent lo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leakage through insurance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see direct result for thei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more willing p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services better – enhance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vice in not fre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7:00:03Z</dcterms:created>
  <dc:creator> </dc:creator>
  <dc:description/>
  <dc:language>en-US</dc:language>
  <cp:lastModifiedBy> </cp:lastModifiedBy>
  <dcterms:modified xsi:type="dcterms:W3CDTF">2008-08-13T15:54:35Z</dcterms:modified>
  <cp:revision>58</cp:revision>
  <dc:subject/>
  <dc:title>Slide 1</dc:title>
</cp:coreProperties>
</file>